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87887"/>
        <c:axId val="29426633"/>
      </c:barChart>
      <c:catAx>
        <c:axId val="35187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6633"/>
        <c:crosses val="autoZero"/>
        <c:auto val="1"/>
        <c:lblAlgn val="ctr"/>
        <c:lblOffset val="100"/>
        <c:noMultiLvlLbl val="0"/>
      </c:catAx>
      <c:valAx>
        <c:axId val="2942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7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E99-C4CA-4250-AE41-CD6C2312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CF9-663C-460C-AC32-39C09D2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78-9D36-4D0F-BF68-91BF6DFD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0C1-AAC8-4187-87C7-8A8052B5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573-46EC-468D-888D-1730D13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D01-BCCF-4EED-B11E-89526A0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87E-8E5B-4044-B240-5BBAD1C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F0C-4A70-4A86-8C0D-7C9D43F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3FE-B1C1-4DB4-9E21-50375D92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F22-C16F-4373-A523-D97A733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FE6-36C4-469B-930F-E61AA43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971-23C4-4D65-A1E5-EF9E2AF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641A-CF9B-40C4-ABE3-E72D0815F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