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64486"/>
        <c:axId val="6693100"/>
      </c:barChart>
      <c:catAx>
        <c:axId val="44564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3100"/>
        <c:crosses val="autoZero"/>
        <c:auto val="1"/>
        <c:lblAlgn val="ctr"/>
        <c:lblOffset val="100"/>
        <c:noMultiLvlLbl val="0"/>
      </c:catAx>
      <c:valAx>
        <c:axId val="6693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64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708-1FAF-4354-9520-02D817EC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B32-07E8-4353-A6DB-55E46A8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C8B-225C-428C-A772-DB961DF9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C67-587D-43E9-892D-CC87D60B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76B-CB5C-47B4-A1A2-30C3C4ED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312-DC22-4495-91C8-36C829F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2D5-B01C-4CB9-BDC9-9121EE79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2DB-0A4D-4163-91D7-650C60D6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203-B642-4E54-8369-C817F65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265-519D-4909-8A39-ADF6301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B52-9BBD-4FA7-9B50-71E7AE0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4EE-F516-4B82-92C9-84A7E05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9AC9F-AC6F-4B8D-9316-D5CE543C2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