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6662"/>
        <c:axId val="82581075"/>
      </c:barChart>
      <c:catAx>
        <c:axId val="8296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81075"/>
        <c:crosses val="autoZero"/>
        <c:auto val="1"/>
        <c:lblAlgn val="ctr"/>
        <c:lblOffset val="100"/>
        <c:noMultiLvlLbl val="0"/>
      </c:catAx>
      <c:valAx>
        <c:axId val="82581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3C2-195A-4F8A-BC15-D6ADD61F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0BE-F639-4A8D-8690-C6EE28A5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C92-EB65-4268-ACA8-E946A5F2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755-69CF-466B-AC32-A7066EEE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EB8-8819-4CF6-A181-B537CA9C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269-1B89-49D4-A3A2-212D3EE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24E-0F54-41A0-B4E7-18A220AD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9DF-EF50-4957-B11A-0E3CBC4D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D93-2307-43F2-8FDB-95275F8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EB0-70E1-4210-9ADB-2D6BD58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44A-C537-406F-8E95-9DFE9C5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3A6-E1D9-4669-BF37-45D9517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47294-7020-4F06-841E-A79C502315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