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62939"/>
        <c:axId val="14971302"/>
      </c:barChart>
      <c:catAx>
        <c:axId val="83762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71302"/>
        <c:crosses val="autoZero"/>
        <c:auto val="1"/>
        <c:lblAlgn val="ctr"/>
        <c:lblOffset val="100"/>
        <c:noMultiLvlLbl val="0"/>
      </c:catAx>
      <c:valAx>
        <c:axId val="14971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2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F43-02B8-4B7D-BA0C-A62070F4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B29-11F9-4892-8393-DE5E2E2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5B0-4664-4554-81F7-3A0A1EEB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5B5-C1CE-4B6A-859E-929CE088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1C2-AA26-4B23-80F4-0BFEA88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B61-9212-4473-B4F3-1FCD8FF4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CE5-B21B-493D-9279-4FD93B03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53E-0893-4D8E-91A4-F7CFB9AB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F04-7A81-4421-A3A4-ABC31CB2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393-A71E-416D-ACB3-2299650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549-C754-4DEC-BD6B-E922331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D65-99CB-45B3-A013-5DA46B2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D0380-08DA-47D4-83D9-79AFF533E0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