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92941"/>
        <c:axId val="20217944"/>
      </c:barChart>
      <c:catAx>
        <c:axId val="18929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17944"/>
        <c:crosses val="autoZero"/>
        <c:auto val="1"/>
        <c:lblAlgn val="ctr"/>
        <c:lblOffset val="100"/>
        <c:noMultiLvlLbl val="0"/>
      </c:catAx>
      <c:valAx>
        <c:axId val="202179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29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4049-B64E-416A-BC60-242BEC76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AEE0-8E10-41D9-AE9F-2F4A31DB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ED5-9E58-4E44-B4CD-5AE00849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2B8-8257-45A2-8477-06F42E50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0A8-F25F-4DA5-81E6-F82E985A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936C-3179-4E5E-AA5E-2D383ADE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BB9-8409-4740-955B-31DF583B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780-6522-4CD8-8F34-20FC4D99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D40-09EE-479E-A334-7D0FBE1E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3075-1DA3-4FBA-88EF-2522C792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B7F4-BC2F-4EBA-8199-433F1F3C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D46F-6F54-42E1-8BBD-2BCFA1CB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757A9-CBFA-48FD-B3A8-E4600F0E4D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