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23299"/>
        <c:axId val="37823793"/>
      </c:barChart>
      <c:catAx>
        <c:axId val="73323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23793"/>
        <c:crosses val="autoZero"/>
        <c:auto val="1"/>
        <c:lblAlgn val="ctr"/>
        <c:lblOffset val="100"/>
        <c:noMultiLvlLbl val="0"/>
      </c:catAx>
      <c:valAx>
        <c:axId val="37823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23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DBA-BA3F-4ED3-8EFF-C8083423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079-4588-473F-8899-9E2B035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CE0-CAF7-44CA-B9F1-4A0F9DFC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35E-4048-4879-A192-252595C1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312-76A7-44B4-B0A2-F1312F9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E88-D482-4B48-8775-7EDA80CA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F7B-1BE3-4193-A7F1-92B82A56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A8F-E697-41A9-8D6E-14A02DC8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AB7-589A-4062-9D0F-780506CF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BA9-ED38-4ED7-8C5F-572FC08A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58B-4EB4-4BAC-A11D-69531CE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290-34B8-4610-8310-71DB5609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D2450-3C31-4922-B0AD-932B6BC541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