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98417"/>
        <c:axId val="61338527"/>
      </c:barChart>
      <c:catAx>
        <c:axId val="56898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8527"/>
        <c:crosses val="autoZero"/>
        <c:auto val="1"/>
        <c:lblAlgn val="ctr"/>
        <c:lblOffset val="100"/>
        <c:noMultiLvlLbl val="0"/>
      </c:catAx>
      <c:valAx>
        <c:axId val="61338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8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24D-1E50-4007-B4AE-6F0741EB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065-953F-40B6-B488-F3DD5487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60B-0732-44D1-BD53-19D179AC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CD5-6765-40C9-8C20-DC13EF9A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DAC-6F6B-449C-87A1-81A352F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713-4DDE-41C3-AF5E-663FC388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BFB-71DB-430D-AF56-63BCEEC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DFC-999E-4E9C-85EF-D77A8BC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DEF-EE74-4CCF-885D-B5EC878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E2E-89E2-4124-931E-6D5E409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6E0-B96F-4388-B237-2039C94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80C-CF98-4AB5-82BE-7C83092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2194C-9062-4715-AE4B-D9FC21EA30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