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29872"/>
        <c:axId val="87030454"/>
      </c:barChart>
      <c:catAx>
        <c:axId val="88029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30454"/>
        <c:crosses val="autoZero"/>
        <c:auto val="1"/>
        <c:lblAlgn val="ctr"/>
        <c:lblOffset val="100"/>
        <c:noMultiLvlLbl val="0"/>
      </c:catAx>
      <c:valAx>
        <c:axId val="87030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29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558-DC09-4781-90AC-FEB642F2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D2C-1B0F-448E-B390-DBFC6B44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DDE-2B07-4671-91ED-B5A56FC6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B53F-1911-48DD-A4EB-0AE1489E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7E93-9D0B-44D2-B4AC-FC5215E5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2586-8C41-41BB-B808-75E513E3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739-EC02-4EFE-9BB3-CD8760A7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E95-8EE8-4AAE-819C-AD37C66E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0A8-2BE8-4A14-BDB0-36BEC26C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567-52D3-4020-9976-79118B74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77E-CA56-4DC3-9E7F-EC1F73B0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050-D7B0-4BD1-9B34-60AA9EF3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3ED88-8E03-4F37-967E-2D121F9398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