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875806"/>
        <c:axId val="22245049"/>
      </c:barChart>
      <c:catAx>
        <c:axId val="87875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45049"/>
        <c:crosses val="autoZero"/>
        <c:auto val="1"/>
        <c:lblAlgn val="ctr"/>
        <c:lblOffset val="100"/>
        <c:noMultiLvlLbl val="0"/>
      </c:catAx>
      <c:valAx>
        <c:axId val="22245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75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8DF4-7082-4B25-8F98-2694C668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5427-8C23-4273-934F-3573757D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9A45-11D2-4AA0-9A48-55D6B060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5A5-B8AC-44AC-8350-1E60391A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C5D0-1859-4C62-BE1A-A43AAC4F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FEB1-A8B6-4294-86FC-872B80AF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B6F1-F163-4ECD-81C5-07C6DA37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A51D-9BB7-4086-A0B7-7CF5935A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7E68-3755-4890-A342-A9262618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7172-B2D7-490E-8015-EA30A5CB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A7C0-A6BB-4F3C-B766-EA9C073C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714-F9CF-4928-B88E-2312D0D2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D81A0-5E42-4008-8345-39F1561D71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