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1931"/>
        <c:axId val="24094787"/>
      </c:barChart>
      <c:catAx>
        <c:axId val="5591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4787"/>
        <c:crosses val="autoZero"/>
        <c:auto val="1"/>
        <c:lblAlgn val="ctr"/>
        <c:lblOffset val="100"/>
        <c:noMultiLvlLbl val="0"/>
      </c:catAx>
      <c:valAx>
        <c:axId val="24094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1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2B9-C053-48CC-98E2-8DA4EE98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665-3370-4360-AB08-A0EC64FD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65B-ABDF-4773-9BAA-6F94D2CE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0A1-2C05-4131-BCA5-F5484CF8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1EE-00C0-44B2-AA63-F7B4FF4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623-E48B-4F86-BE22-90D8A05F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EBA-5A89-4ACF-B812-3C1840DF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600-A308-4BB7-BC0C-0EE4457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E15-DFA0-4E2D-84C6-84BFA2DE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055-1955-444F-B568-5DE8A30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D30-83B6-45D6-85DA-DA18FFA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952-FFA5-4571-AA65-AA6AB84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26798-BA33-4AF2-819C-CF38754341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