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73262"/>
        <c:axId val="52235218"/>
      </c:barChart>
      <c:catAx>
        <c:axId val="59673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35218"/>
        <c:crosses val="autoZero"/>
        <c:auto val="1"/>
        <c:lblAlgn val="ctr"/>
        <c:lblOffset val="100"/>
        <c:noMultiLvlLbl val="0"/>
      </c:catAx>
      <c:valAx>
        <c:axId val="52235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3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8FB-2F64-4A42-949F-3685BAB7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135-D487-4972-8EFF-1F0BFB55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1FA-686D-4215-A579-08EDC902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5C9-AD41-4993-8438-923BC24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438-609A-49B7-90D0-7836D0B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F86-2151-49B8-BE7C-AE16726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1E7-AAC6-455F-8D40-47C8D1BE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F62-CAED-400A-AAA5-863CD33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398-9ABB-4C62-82AB-A25627F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1E3-AF43-4E81-AEFE-41DDDFF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7A8-EBBC-424B-8668-446DC48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0D9-694A-4E21-A461-4F92D38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9898-D3FE-4592-8804-5500F3DA8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