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8916995"/>
        <c:axId val="63667606"/>
      </c:barChart>
      <c:catAx>
        <c:axId val="9891699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667606"/>
        <c:crosses val="autoZero"/>
        <c:auto val="1"/>
        <c:lblAlgn val="ctr"/>
        <c:lblOffset val="100"/>
        <c:noMultiLvlLbl val="0"/>
      </c:catAx>
      <c:valAx>
        <c:axId val="6366760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91699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E6CA5-78AB-4DDB-8E06-DDBF4DD3D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DB45A-2ECF-4D08-A026-CDDF0358F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9836E-6E4E-4779-89BA-0239871D8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27B38-E1CA-4361-B48B-64A152CB2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2E861-5FB5-456D-B7B6-6D7BD8643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800BF-5460-4A43-967F-C09AF96EF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77288-0107-471E-9CAA-1CBF58A3D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192F8-44F4-49C6-B713-68598D8A3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B41AB-13A0-424B-BD75-7055F66CE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09606-655F-42D6-B61D-D4E381D66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4F10A-5CEA-4EB2-8D3E-8945EB385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61B95-1CB9-4E31-A479-64CEA318A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97793C-0502-498A-9526-02A29E7D946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