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26235"/>
        <c:axId val="4269342"/>
      </c:barChart>
      <c:catAx>
        <c:axId val="95626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9342"/>
        <c:crosses val="autoZero"/>
        <c:auto val="1"/>
        <c:lblAlgn val="ctr"/>
        <c:lblOffset val="100"/>
        <c:noMultiLvlLbl val="0"/>
      </c:catAx>
      <c:valAx>
        <c:axId val="4269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26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01D-9362-47FA-A86C-9FF19A62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2D28-075B-43AF-9E6C-9E10BFC0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9341-DD6E-4B72-AADF-4FEFDBE2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D295-854B-42DE-8335-1DDD81FD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AB6-C891-4265-95B9-C123D12E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078E-7AFE-449F-BB3D-18574C0C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2B61-9F3B-4993-8F5D-79CA160C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E052-A74F-49B3-A695-C51BCA07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CBF5-5954-44B5-85B6-2E44CC74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5D31-2A4D-4B56-BD7C-30E3C68F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6384-0BB4-4742-8673-C104F6D0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64AB-0049-409D-A1DF-38B8D881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307C83-D261-42C5-AFB2-23F1CF6AEC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