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93547"/>
        <c:axId val="46238974"/>
      </c:barChart>
      <c:catAx>
        <c:axId val="35193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38974"/>
        <c:crosses val="autoZero"/>
        <c:auto val="1"/>
        <c:lblAlgn val="ctr"/>
        <c:lblOffset val="100"/>
        <c:noMultiLvlLbl val="0"/>
      </c:catAx>
      <c:valAx>
        <c:axId val="462389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93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5C29-2024-4754-BE5C-2C9B2091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F87-2A96-4F90-B9FB-49DDFF27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12BB-295C-4407-8BD5-CB24CCBC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ABE-B078-400F-803A-976E6CB0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1CE3-42AB-4785-B9EF-41A0A4AB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C7D-1058-430F-9D9A-98A8D737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91C7-FD6F-4168-BD84-891867A4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182-AFAE-42DE-AEB8-B8D292E1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372-7DE2-4D1B-AFD8-37435334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9D5E-6A7C-4F3B-9611-846B85A8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13C1-C191-4249-BDD2-740B38CF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97BC-1E1A-450E-980C-627295B0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D61DD-5A87-4598-B997-46DFEF82CE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