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31988"/>
        <c:axId val="54507765"/>
      </c:barChart>
      <c:catAx>
        <c:axId val="85731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07765"/>
        <c:crosses val="autoZero"/>
        <c:auto val="1"/>
        <c:lblAlgn val="ctr"/>
        <c:lblOffset val="100"/>
        <c:noMultiLvlLbl val="0"/>
      </c:catAx>
      <c:valAx>
        <c:axId val="545077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31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0B10-92DF-4325-AAD8-6BE58012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A10C-2755-4DDE-A801-E2DF40F8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F10-907E-403A-9AC9-160D8B39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E131-0479-49EC-BE56-81D30B91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D2B-EA1A-4F64-80A4-3D7DD4B5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F0F-B8E7-4BD2-9145-8F3B6BAA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EFF-98C5-4CCE-9A14-C0954009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F93-5E41-45CD-B41D-E3DCCB2A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428-54B2-4E06-B199-CC227942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F0D-4593-4D1A-B197-A0DCAE42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A849-53F6-4798-8545-4FD5CAB8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B1C-E85A-4A95-95BE-D454476F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0D42F-6095-4AC8-9EEE-70FFB513CD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