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71766"/>
        <c:axId val="4706133"/>
      </c:barChart>
      <c:catAx>
        <c:axId val="44171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6133"/>
        <c:crosses val="autoZero"/>
        <c:auto val="1"/>
        <c:lblAlgn val="ctr"/>
        <c:lblOffset val="100"/>
        <c:noMultiLvlLbl val="0"/>
      </c:catAx>
      <c:valAx>
        <c:axId val="4706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71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94B-FCC0-4607-9E36-0B5495FD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C91-2A74-408A-8075-2E0BEC98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2BD-68BC-4D97-AF5F-4C2B0B87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803-C45F-4D97-B3BD-4DB989D2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2A9-9BAC-4CE5-9FA5-41A910BF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13FE-D557-4DE2-B6A6-1EC83C72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396-20BE-4BBD-8F77-D6E30FD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A3C-36B7-404E-B334-9DB8C545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7C3-625A-4EA8-BF82-605E9E1C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80A-0F4F-4EBC-8B57-F9073C62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9882-533C-453A-9677-21F0089D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2CD-B85B-4B00-8AB8-6B2582A4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FD21E-E92C-4B42-BA63-65E6B8458E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