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85738"/>
        <c:axId val="79801532"/>
      </c:barChart>
      <c:catAx>
        <c:axId val="41985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1532"/>
        <c:crosses val="autoZero"/>
        <c:auto val="1"/>
        <c:lblAlgn val="ctr"/>
        <c:lblOffset val="100"/>
        <c:noMultiLvlLbl val="0"/>
      </c:catAx>
      <c:valAx>
        <c:axId val="79801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5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626-DAB1-468E-AC09-C613F5AB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723-F0D1-422B-87A1-B4C2206A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C0E-7EB8-4501-B6CF-730BE02B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202-DD0F-4B83-B87B-D623A337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98C-BE5D-4198-BA42-1C33D8B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CD7-9D41-4174-AFC6-961CCC6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C62-6D4F-4249-B345-49D4996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91F-1FBE-4D05-9FE2-ED42C33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DC9-4FE5-4415-A7BB-66A71201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14A-C2B2-4AB7-B660-5DFC0E3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C06-CF29-45D7-8371-811875A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0ED-1CFA-41ED-B4AC-A0843FB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3E481-4885-4C30-B7D1-06C0A9F768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