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69421"/>
        <c:axId val="27012787"/>
      </c:barChart>
      <c:catAx>
        <c:axId val="38269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2787"/>
        <c:crosses val="autoZero"/>
        <c:auto val="1"/>
        <c:lblAlgn val="ctr"/>
        <c:lblOffset val="100"/>
        <c:noMultiLvlLbl val="0"/>
      </c:catAx>
      <c:valAx>
        <c:axId val="27012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69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85F-88B6-48C2-8283-D8C63A75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357-2CFA-48F6-97C8-6B2C8FD0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442-BFFB-4FC7-9527-3BC806B9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6AE-67CC-4B12-ADAE-5EC38D5C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A96-A7BE-4DEA-B9CB-3718DD59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80F-3BAB-4A92-8EC4-D8627C1A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9B2-C629-4467-A019-BB66D16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218-7E94-4836-A105-D4C9D8D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1A5-4653-4EA0-B478-A9D8065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CCE-2C5C-4398-A352-0619591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55F-541A-4961-B350-E25C4C8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78E-A748-4D8D-A192-C920CCA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B729-198A-46F7-8E63-C08E508794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