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97992"/>
        <c:axId val="2145492"/>
      </c:barChart>
      <c:catAx>
        <c:axId val="22497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492"/>
        <c:crosses val="autoZero"/>
        <c:auto val="1"/>
        <c:lblAlgn val="ctr"/>
        <c:lblOffset val="100"/>
        <c:noMultiLvlLbl val="0"/>
      </c:catAx>
      <c:valAx>
        <c:axId val="2145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97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1D8-E261-4F4E-A19F-2779C256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E75-2743-4A19-9BDD-A8E097B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EEA-6DA8-47C6-BA1B-3DDA557F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262-21EF-4DBD-BE68-43DFD879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3C2-2DF4-4EF2-9E44-A0307C0B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F0F-94F3-41F3-8303-47962E5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6BF-171D-4D46-8F1A-61D4C624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DCA-2F09-48CB-8A83-3688ADA9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01-28B0-4091-84EE-DF3251BA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781-F08F-4C25-A6C9-15F8ACF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F6E-7ACE-43C3-BE8B-12338D0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E43-16F9-411E-A709-277C25E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CD1B-2946-4F71-8477-C3A14BA443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