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114310"/>
        <c:axId val="38832540"/>
      </c:barChart>
      <c:catAx>
        <c:axId val="911143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832540"/>
        <c:crosses val="autoZero"/>
        <c:auto val="1"/>
        <c:lblAlgn val="ctr"/>
        <c:lblOffset val="100"/>
        <c:noMultiLvlLbl val="0"/>
      </c:catAx>
      <c:valAx>
        <c:axId val="388325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1143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6F6F-8C42-4022-BF30-9155060C8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70A8-AEA2-4790-9745-58230B554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1A4A-1E47-4B28-B0FC-97E1B534A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4EC2-9B73-44AC-98D1-9FE405E8F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4E99-2AD5-4822-83AC-70937ECE2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9781-2746-4123-82B8-CC7FEE5B9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4984-BA55-441C-9B08-51DAB987E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B17F-CBA5-41F0-9470-4E13A066D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F1D9-BAE2-433C-9A16-140CFE60A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0491-2E88-476E-A5B0-44C9E1EE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83DB-F31B-4906-A8D5-9353513E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5B4E-0B24-433C-922E-4845C134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E6C9D9-4FF5-4158-B66D-F945A28211E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