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20162"/>
        <c:axId val="5961723"/>
      </c:barChart>
      <c:catAx>
        <c:axId val="764201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1723"/>
        <c:crosses val="autoZero"/>
        <c:auto val="1"/>
        <c:lblAlgn val="ctr"/>
        <c:lblOffset val="100"/>
        <c:noMultiLvlLbl val="0"/>
      </c:catAx>
      <c:valAx>
        <c:axId val="59617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201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C82-99F8-45F3-AB21-70432510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6B0-4E33-42C9-9604-BEF9F26B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1C3-D735-4B91-AD20-43C83C8D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8674-A99C-469D-AF06-605C24E2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74AA-7B91-40AE-9D5B-30B6DB7D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527-0651-4305-8DBE-579F4B9D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A5C-2BA6-4BF8-BF45-9BE0FF7E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5DC-9AEB-488F-AB50-DFB76626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788-4279-4340-9180-102EA1AA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87C-133F-4D74-8432-89451B97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4DA2-7CAD-49E9-8889-DF6C3553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AE3-F921-4556-A9CF-CFB14C6F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FD18A-F01C-465C-BCF7-AA8E323175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