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6547"/>
        <c:axId val="48626928"/>
      </c:barChart>
      <c:catAx>
        <c:axId val="14665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26928"/>
        <c:crosses val="autoZero"/>
        <c:auto val="1"/>
        <c:lblAlgn val="ctr"/>
        <c:lblOffset val="100"/>
        <c:noMultiLvlLbl val="0"/>
      </c:catAx>
      <c:valAx>
        <c:axId val="48626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65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CDB-5B1B-4549-BA35-8C44A37A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3C19-8863-4A45-8400-71F6CA4F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E45-C094-4E6C-9D2B-282B1D1B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D26-BFF5-434F-AE61-372047A9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A339-9FC9-4573-A906-8353F564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ED0-C372-4D12-AAC5-47F1F96B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5704-E05D-45ED-A14C-E53D0C4F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881-BEA5-4F08-8E40-C13D2867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FD4-72EE-4682-BECC-7316EBEE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7C3-8EE9-442E-A150-055D19CF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39C-403C-4A78-98C1-5D29CD64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AC4-3B03-4100-8301-316A6745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7259E-A6AF-4055-A35E-5FEE23EC2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