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546939"/>
        <c:axId val="4793996"/>
      </c:barChart>
      <c:catAx>
        <c:axId val="405469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3996"/>
        <c:crosses val="autoZero"/>
        <c:auto val="1"/>
        <c:lblAlgn val="ctr"/>
        <c:lblOffset val="100"/>
        <c:noMultiLvlLbl val="0"/>
      </c:catAx>
      <c:valAx>
        <c:axId val="47939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469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4FCF-6BBF-4192-BBB4-F4DE98E8D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E39C-4DBD-4D25-8D2E-1C68C202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0E0D-5B82-4E61-86DA-0B4501400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F1BE-F2A3-4488-8E3D-E938A80DD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D081-CE0E-4C5C-A63A-1F96BB16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DD14-9F26-4518-9E34-E6309923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A8AD-242F-4097-8B49-033EA266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D6CA-E708-4965-80DA-5F64EA45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F93A-6D74-4855-8127-F265044A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3DCA-BD41-477F-99F9-E925788B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B1CC-40BC-4C4B-8EE2-CFD72DBA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EBF9-9386-4D5D-B6D1-F9E88580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8672A-9077-4049-9D4C-696F29DD7C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