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70742"/>
        <c:axId val="3522386"/>
      </c:barChart>
      <c:catAx>
        <c:axId val="89170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2386"/>
        <c:crosses val="autoZero"/>
        <c:auto val="1"/>
        <c:lblAlgn val="ctr"/>
        <c:lblOffset val="100"/>
        <c:noMultiLvlLbl val="0"/>
      </c:catAx>
      <c:valAx>
        <c:axId val="3522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70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161-1253-4A7E-A05F-FF40AB22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A64-49C1-42D9-80C9-68A3537C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E37-32DC-4884-9338-E6836E31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294-0C92-43FE-BAE9-24055D30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568-9322-408D-A565-FCED0812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E0B-CF05-4D4D-B614-8746E78E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8CD-8549-4463-977A-30BD977C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DB5-2B05-4432-883B-9F178815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0DE-5F46-4B91-B2BA-C5134D77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E61-F13C-4A60-860A-991FDD80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43B-8A9E-47E2-B3F3-21D6DA5F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AEF-D5AA-4113-8BE4-11AA549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507F9-6840-4D2B-953F-DBFE02CB7A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