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20445"/>
        <c:axId val="42421057"/>
      </c:barChart>
      <c:catAx>
        <c:axId val="44320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21057"/>
        <c:crosses val="autoZero"/>
        <c:auto val="1"/>
        <c:lblAlgn val="ctr"/>
        <c:lblOffset val="100"/>
        <c:noMultiLvlLbl val="0"/>
      </c:catAx>
      <c:valAx>
        <c:axId val="42421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20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2DD-BFDB-4030-81CC-5A03DFC4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1C2-56D1-4FBB-B572-DED7C9CB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54F-EB2F-4FD5-A127-DEB977CF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463-4487-47E1-AEC4-77BFF5F9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2C7-F012-479A-A8FC-786656A2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2E8-5FE7-4A0E-A47A-E0F17DF4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F0A-B2C2-46EB-B936-71505BE3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4BC-9488-4AC9-B3C4-C4A00A09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CD8-B421-4388-9090-E9F5014F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C57-C223-4473-AD03-FB90C553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2EC-BE36-46F1-BBC2-9944399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AF8-1C6A-41B3-A900-19F5482C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82F26-9506-4D6A-99CD-2537AE3488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