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42072"/>
        <c:axId val="67884313"/>
      </c:barChart>
      <c:catAx>
        <c:axId val="621420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84313"/>
        <c:crosses val="autoZero"/>
        <c:auto val="1"/>
        <c:lblAlgn val="ctr"/>
        <c:lblOffset val="100"/>
        <c:noMultiLvlLbl val="0"/>
      </c:catAx>
      <c:valAx>
        <c:axId val="678843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420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EC0E-E153-4195-B4DE-BBAF2CF2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C8FD-C732-428D-87DE-B933971A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F64E-F747-4668-BE98-D2FF5AF0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EA8C-2CCE-4FA8-83F5-337312B6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8859-796B-41F4-AB7B-88B56B0D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973B-5076-4395-9CE1-D028E3D1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FDAF-DD99-455E-9E46-096BDB29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ADF9-1614-42A3-B087-F6C0C12F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4436-396C-4A99-B71B-3E1162E3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E595-8580-4945-837D-FD904965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6DCC-5D0D-4597-ABB9-82AA4584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151A-4877-4EE3-A933-7B47B338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14B24-64F5-4014-A5A2-7EC8E1D152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