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84927"/>
        <c:axId val="95860712"/>
      </c:barChart>
      <c:catAx>
        <c:axId val="79784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60712"/>
        <c:crosses val="autoZero"/>
        <c:auto val="1"/>
        <c:lblAlgn val="ctr"/>
        <c:lblOffset val="100"/>
        <c:noMultiLvlLbl val="0"/>
      </c:catAx>
      <c:valAx>
        <c:axId val="95860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84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990-949F-42C5-95AD-E40286C9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6D5-5E72-4FB8-BE19-BA9EF1E8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8CD-D377-45C2-87E5-928456CF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599-038D-48AF-B950-B9194422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3C3-D93C-4D4B-B177-C5D6D712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D20-674B-43EF-A6DC-85694F15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83EC-4EE8-4A48-955D-E57D3B4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A57-EB6A-49F7-BF4A-04841A30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AE9-8E6B-4196-9F3C-BF84BCF1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CAB-F8F4-4F9D-BD2D-9279880B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5AF-26C5-4BDE-B9F2-D100AA6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1CB-1F3E-4F4A-8A93-597EC3E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B6433-AFC8-416B-8622-8D9CB9CDD9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