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29362"/>
        <c:axId val="76275332"/>
      </c:barChart>
      <c:catAx>
        <c:axId val="70629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75332"/>
        <c:crosses val="autoZero"/>
        <c:auto val="1"/>
        <c:lblAlgn val="ctr"/>
        <c:lblOffset val="100"/>
        <c:noMultiLvlLbl val="0"/>
      </c:catAx>
      <c:valAx>
        <c:axId val="76275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29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275-023A-4B5B-B6C3-24FBBE42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77E-8643-46EB-A84D-BB4E0CAA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82A-8E0C-4D4E-8C33-297D09B9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134-1444-457F-99A8-AAC997BA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653-8155-4124-BD0F-92728CC4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2A4-7023-425C-BBDE-A543C51B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2B6-2E29-4690-945D-CC71A10C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807-B1F8-408D-B3BC-A05BE198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091-6CA9-4C83-89D5-32F349E9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07C-A750-44CB-A592-1781F0E6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456-A48C-438F-96C3-67C101D2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169-3499-42E3-A5F8-F7A30215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420BD-E6C5-4E07-A942-763567A6A2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