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69273"/>
        <c:axId val="14262457"/>
      </c:barChart>
      <c:catAx>
        <c:axId val="50069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62457"/>
        <c:crosses val="autoZero"/>
        <c:auto val="1"/>
        <c:lblAlgn val="ctr"/>
        <c:lblOffset val="100"/>
        <c:noMultiLvlLbl val="0"/>
      </c:catAx>
      <c:valAx>
        <c:axId val="14262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69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ADB-97C5-4A57-A040-65F2E6FB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6DA-00E3-4ECF-AA86-2FE2B9DE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1C7-60F2-4ECC-9B1F-D3CA2EB1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722-7C50-4B9B-BFEC-61ED5A50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8BF-262C-4FE7-99C9-8AB80C88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E3F-AA65-4481-9442-1CB09EBB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74A-377C-4892-9F76-17156849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87E-B4EE-4ED1-B8B0-C91DCBD8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329-16C4-4013-9120-FB344CA0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CA0-159C-4DDC-AD6B-8A3FAE5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1D1-2C56-4E59-8A3C-0E1868AD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E4C-7DEA-4080-803B-49562710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1E606-9E5A-4B3C-BD40-78642ED517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