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90273"/>
        <c:axId val="38193334"/>
      </c:barChart>
      <c:catAx>
        <c:axId val="57690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93334"/>
        <c:crosses val="autoZero"/>
        <c:auto val="1"/>
        <c:lblAlgn val="ctr"/>
        <c:lblOffset val="100"/>
        <c:noMultiLvlLbl val="0"/>
      </c:catAx>
      <c:valAx>
        <c:axId val="38193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0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CAC9-0E0B-4614-B63A-8A05B5A0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718-A5CE-4106-87C6-B1AFE455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4C3-64FA-41FC-9DE2-D758A5A9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F91-8EF2-4DA6-917C-FFAE1A15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D02-0FEB-4E35-81F4-5A7BAAC3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E99-B0BE-4AC7-A514-2D6FF0B3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56D-F86A-4F52-ADA4-824EACE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692-1BA2-41FB-9114-E901122B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E77-89CC-4D19-828C-80B0249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5CC-19C8-46E0-A1A2-A70CB07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F02-D757-4188-A874-CBA9F00C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AE6-A9C2-40EF-974D-A9DD3BA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CEFE8-C559-488A-8B70-4925E74217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