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51889"/>
        <c:axId val="66927260"/>
      </c:barChart>
      <c:catAx>
        <c:axId val="55651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27260"/>
        <c:crosses val="autoZero"/>
        <c:auto val="1"/>
        <c:lblAlgn val="ctr"/>
        <c:lblOffset val="100"/>
        <c:noMultiLvlLbl val="0"/>
      </c:catAx>
      <c:valAx>
        <c:axId val="66927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51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8E0-6C90-4CBD-8A6B-52F69670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F5F-C11A-4AB7-AF93-FF4A039D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203-94FD-4033-B0EA-D4777FF4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87D-B053-4816-80FF-E2FEDDB9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4AD-AD84-48CF-A695-3CAD0474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B5F-2028-4FB4-8306-6D010AD8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D94-941A-4A73-AADB-0A13CF49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C9E-1E8D-4D87-81DB-3D4658E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E9A-8722-4E9C-95F7-1BB67D13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990-10D8-4B33-BC3B-A3B4278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E4D-5CD3-40D1-91EB-1EB1DA1E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39D-15CE-411C-AFBE-CE019ACC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7B629-142C-4625-8038-BD5A82255F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