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28100"/>
        <c:axId val="44967835"/>
      </c:barChart>
      <c:catAx>
        <c:axId val="96928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67835"/>
        <c:crosses val="autoZero"/>
        <c:auto val="1"/>
        <c:lblAlgn val="ctr"/>
        <c:lblOffset val="100"/>
        <c:noMultiLvlLbl val="0"/>
      </c:catAx>
      <c:valAx>
        <c:axId val="44967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28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F00-E84F-4C51-8110-BF0FB7F1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F9B-7F60-462C-8D64-5885E3C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3D4-2FA8-47E2-8453-9E621D66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B50-87BC-4A30-9F24-B96B84DB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984-C729-4062-958D-4252D502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23B-0A4F-45AC-A3F2-132ABDD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6DE-99B5-413C-A218-9C1C565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AAA-3C4F-4070-90E0-C44A4BC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3D2-F257-4517-9020-C2B0820D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4C9-50F5-4B69-A6DF-B6D1D32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435-4A26-41E6-8513-B0E0011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568-718C-4F2D-A1C1-3832DBC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341E4-C9BE-4CE9-BC0B-277A245B8A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