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97911"/>
        <c:axId val="29430818"/>
      </c:barChart>
      <c:catAx>
        <c:axId val="48497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30818"/>
        <c:crosses val="autoZero"/>
        <c:auto val="1"/>
        <c:lblAlgn val="ctr"/>
        <c:lblOffset val="100"/>
        <c:noMultiLvlLbl val="0"/>
      </c:catAx>
      <c:valAx>
        <c:axId val="29430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97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0C4-9583-49A6-8893-E6558D31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391-034D-4875-8BE6-AE79D3A3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4F1-4FE7-401A-BCC3-55FD8ED9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ED0-F409-4E72-851A-9488D29D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B90-62B6-45D3-AE00-19CF007B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073-7DA5-48CD-8C86-D38A5DC6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A82-851D-47C0-8971-376E7D5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D18-BDFC-4A1C-BAE0-10A07A54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65F-EC97-408A-B7A3-139D4ACA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CCB-C55F-44F2-B9EB-47D8F17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604-2788-4868-835E-9A16CB1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149-182E-45EA-A554-5195F562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9E8B6-63BA-4FA6-8399-42DBFDC5C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