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18338"/>
        <c:axId val="57263422"/>
      </c:barChart>
      <c:catAx>
        <c:axId val="91218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63422"/>
        <c:crosses val="autoZero"/>
        <c:auto val="1"/>
        <c:lblAlgn val="ctr"/>
        <c:lblOffset val="100"/>
        <c:noMultiLvlLbl val="0"/>
      </c:catAx>
      <c:valAx>
        <c:axId val="57263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18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B24-3BA0-429D-8BF9-65425DFF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FB7-A9C0-4B8F-AC5E-B56BF863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567-9EC8-496F-8F50-797FFF44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21A-97C0-4BF8-B1A2-FDC17AEB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A03-07AD-484E-939B-E6AA1EEF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F2B-E2EA-4AF8-A881-139E2A42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7DB-5348-4B79-9699-1FDF3341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AE5-5590-4D4E-8389-DA4A4BDA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2FB-2DA2-433E-BBA5-64A6711C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B93-10A7-42CA-8AF6-1151967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2E6D-B44B-4BB2-9C58-672DF327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183-C1FB-49E0-8B8F-29F3C04F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41E46-7148-4771-ACDA-4998E335B3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