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0864"/>
        <c:axId val="54696479"/>
      </c:barChart>
      <c:catAx>
        <c:axId val="4730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96479"/>
        <c:crosses val="autoZero"/>
        <c:auto val="1"/>
        <c:lblAlgn val="ctr"/>
        <c:lblOffset val="100"/>
        <c:noMultiLvlLbl val="0"/>
      </c:catAx>
      <c:valAx>
        <c:axId val="54696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4B9-4488-4298-B2E1-0C948882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68D-CE1F-4E28-80EE-1F9D883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153-5F17-4A50-B4CE-65E79418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773-BC4B-4D17-8568-E091F7C5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040-71BE-4F7B-9037-78B682C4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105-5029-4C85-9A66-FECF5DCA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EF0-10BC-470D-99B2-F8DF8327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8D5-1C46-4282-9200-8E46A1C7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A0C-1E87-4D43-AD7D-025F25A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866-9DC1-4F87-AE70-BCDAB14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4DB-69F1-4975-A528-B7AE817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059-B83F-4AF8-A6DE-3B6B39A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5C1DB-EE71-45B3-BBAF-6BC2247F6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