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18206"/>
        <c:axId val="17955791"/>
      </c:barChart>
      <c:catAx>
        <c:axId val="56518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55791"/>
        <c:crosses val="autoZero"/>
        <c:auto val="1"/>
        <c:lblAlgn val="ctr"/>
        <c:lblOffset val="100"/>
        <c:noMultiLvlLbl val="0"/>
      </c:catAx>
      <c:valAx>
        <c:axId val="17955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8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410-F101-40AF-9FEB-4CA015BB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758-2EA7-4AC8-B475-EAB218DC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66E-8AD4-48DA-A04B-AE27145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26E-A8B3-49F8-83AE-4420C314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8FF-0508-4A16-8B78-7E305433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DCA-35ED-4BF7-83B7-974C8B8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2FF-DDEF-4834-B8B9-E6F0AB73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536-0BB4-4C35-983A-7C6A7F2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6E7-C411-4C76-ADE0-43651DE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F2D-1F5F-4D0A-8802-E19006A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452-75F4-4F98-AC08-D243EE0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715-43BC-403C-816E-574F3A2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C43B-1698-4FF3-8A4F-CF1617EB3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