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34162"/>
        <c:axId val="44637981"/>
      </c:barChart>
      <c:catAx>
        <c:axId val="67034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37981"/>
        <c:crosses val="autoZero"/>
        <c:auto val="1"/>
        <c:lblAlgn val="ctr"/>
        <c:lblOffset val="100"/>
        <c:noMultiLvlLbl val="0"/>
      </c:catAx>
      <c:valAx>
        <c:axId val="44637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34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DC0-969A-4EF3-9F8B-7782570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019-F1E6-47A8-9586-C094B3C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7C6-B7C7-491A-9B42-CE7E339A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63F-9AF5-45CE-A2B4-96CCD521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279-8D56-48F4-9297-347575F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AF3-CEA2-4817-8CB9-A755270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BB5-CF11-4A17-93A8-11CC5EF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CA2-7DED-4DC1-B8F6-AD58110F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BD4-59E9-47A5-945E-5B65F3EC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541-73B1-48C7-9ECE-1022234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32C-FE53-4776-9066-3E44E3A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836-807D-4C83-B765-C885327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BB7F3-BC07-4886-B800-1D8093F9D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