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71518"/>
        <c:axId val="44358931"/>
      </c:barChart>
      <c:catAx>
        <c:axId val="13871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58931"/>
        <c:crosses val="autoZero"/>
        <c:auto val="1"/>
        <c:lblAlgn val="ctr"/>
        <c:lblOffset val="100"/>
        <c:noMultiLvlLbl val="0"/>
      </c:catAx>
      <c:valAx>
        <c:axId val="44358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71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DF1-47B0-409D-B71E-1C09F3E8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99E-68FD-4808-8E17-2EF937B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159-5711-47D5-9A4F-74FF75A1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85A-0C50-4EA2-9E0C-724A56B0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87E-F238-474A-AEC9-A10DB99D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0A8-373E-4A41-95B6-A6632CE2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91A-E200-4917-B0BD-1A0C4618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FE3-D81C-453F-B06C-BA4FDE7B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269-4CDB-49B8-A199-7189D2C9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367-EFBD-4F7A-80E7-3C2624EE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0B1-BD06-4291-80B4-8EB591EF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B2F-C451-48A5-A0D7-53FA0D3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98F24-14C3-4227-BC66-A4E71925D2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