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64387"/>
        <c:axId val="42824262"/>
      </c:barChart>
      <c:catAx>
        <c:axId val="401643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24262"/>
        <c:crosses val="autoZero"/>
        <c:auto val="1"/>
        <c:lblAlgn val="ctr"/>
        <c:lblOffset val="100"/>
        <c:noMultiLvlLbl val="0"/>
      </c:catAx>
      <c:valAx>
        <c:axId val="42824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643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20A-212B-4A95-B7CD-14FF98378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09FF-D910-4A7B-BD08-CD9E0C46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491-8C4E-4343-9833-CA2B7177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221F-411D-4859-86F7-0862D853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D31-4C32-4507-9554-9A76ABD5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EA6-87D6-4A78-A8B4-D85DEB19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60C-984D-4AB3-B66D-3FDAA9D7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D22-E55B-4939-8C33-7AE1AD7F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2FE-B148-4403-A362-4BE4AD42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181A-907A-46EC-A2A7-63D386E2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4F71-0670-4B02-B0A8-D874A5C8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3E8-D81F-4113-9F67-599742C2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1D8B2-9A86-43A6-AF06-778B9BD71F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