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65868"/>
        <c:axId val="42319446"/>
      </c:barChart>
      <c:catAx>
        <c:axId val="13865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9446"/>
        <c:crosses val="autoZero"/>
        <c:auto val="1"/>
        <c:lblAlgn val="ctr"/>
        <c:lblOffset val="100"/>
        <c:noMultiLvlLbl val="0"/>
      </c:catAx>
      <c:valAx>
        <c:axId val="4231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5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750-B080-457E-8907-50008EBA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285-9D54-4431-9C6C-6FA7F5A8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C02-50A1-49FC-9888-2B58FE29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ABD-659E-4BD1-91B6-AD44FFC7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153-924A-4318-B8F4-DC4F04E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DC6-4199-4E37-A7C4-1DC1A26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3EC-0B64-4B95-A043-E5160AD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438-6A20-4EB0-8C86-906BAEF9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F7F-CC2F-4BF5-905A-3D7B1F58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8B4-14AB-4843-83D5-9468021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D13-606A-4591-9D0B-6571143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DE1-E7B4-4449-9713-5F93B80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74583-8E25-4250-A1D7-FF664BDD1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