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175640"/>
        <c:axId val="86914870"/>
      </c:barChart>
      <c:catAx>
        <c:axId val="461756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14870"/>
        <c:crosses val="autoZero"/>
        <c:auto val="1"/>
        <c:lblAlgn val="ctr"/>
        <c:lblOffset val="100"/>
        <c:noMultiLvlLbl val="0"/>
      </c:catAx>
      <c:valAx>
        <c:axId val="8691487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1756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008F-15C0-422D-A3AD-36775BC9C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28E2-6913-4A34-9BC9-338B1841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74FA-D7D7-453F-8B2C-A9F779E73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19C7-57BF-4B45-BDC0-817B4A2F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8D31-341C-423D-AD77-08E47F92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BE26-0274-4130-B76D-048C473B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C049-DA0B-48CA-AA2A-5E37D66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7657-D381-492F-9D9F-03396F6C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997E-E8D6-4E5B-B073-3DC6D5B5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6E0B0-DE0A-4F96-A688-D3B3B5D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F4F1-E570-4969-9271-7ABEA515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CE6-9FDA-40F5-AECF-7BB6DE07A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18BF3-60E8-4572-9AB2-30F136B426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