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00497"/>
        <c:axId val="91478476"/>
      </c:barChart>
      <c:catAx>
        <c:axId val="177004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78476"/>
        <c:crosses val="autoZero"/>
        <c:auto val="1"/>
        <c:lblAlgn val="ctr"/>
        <c:lblOffset val="100"/>
        <c:noMultiLvlLbl val="0"/>
      </c:catAx>
      <c:valAx>
        <c:axId val="91478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004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9B1-25A8-451D-B37E-D50BAF2E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F49-FB89-4997-B031-C1AC7CEE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740A-E0EE-4139-89E5-E8ADF243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FF0-6B18-4C70-A982-6E70160E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BA6-A7DF-4B31-BED6-B13C6065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3FA-64DC-44BA-8ED4-EE66C22A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FF5-3AD1-4A00-819A-94C4D47F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DF0-32F4-40DA-8091-F33BFF48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BAC-0331-4CE9-A4CE-AD9E759D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2E6-89EF-4A01-B998-C0928A26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BB1-AC51-45F7-A187-DBDFF15C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8F3-D88E-47C6-AEF5-3DA604ED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2F7E7-C11F-40C0-83D1-C140549AEB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