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59571"/>
        <c:axId val="36711612"/>
      </c:barChart>
      <c:catAx>
        <c:axId val="51959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11612"/>
        <c:crosses val="autoZero"/>
        <c:auto val="1"/>
        <c:lblAlgn val="ctr"/>
        <c:lblOffset val="100"/>
        <c:noMultiLvlLbl val="0"/>
      </c:catAx>
      <c:valAx>
        <c:axId val="36711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59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EA1-7787-4F88-BC3B-FD4438C2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C13-6901-4C0A-BBE2-1C8789B8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520-7F8D-4C7A-8D9F-17DD7AC7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D51-389C-4DF4-AADF-48A6C189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610-2B2D-435A-A4CB-76F9F9FA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B80-FFDD-498B-80B4-783A4BB9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50A-9514-45D5-A0C0-FC1D3735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1C8-9601-4554-8472-6F759583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9E4-A1AB-4DBF-AA4B-F698BE61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C74-F5D2-49E3-9C45-C279E76D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D8E-A271-4E05-81EC-9C4DF82C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F14-0B5B-4207-A284-28A6E788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6604A-C31C-4346-AE2A-0AD3E0D76B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