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212803"/>
        <c:axId val="24066"/>
      </c:barChart>
      <c:catAx>
        <c:axId val="242128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066"/>
        <c:crosses val="autoZero"/>
        <c:auto val="1"/>
        <c:lblAlgn val="ctr"/>
        <c:lblOffset val="100"/>
        <c:noMultiLvlLbl val="0"/>
      </c:catAx>
      <c:valAx>
        <c:axId val="240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2128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B007-8092-4A24-82F6-D78A44A70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1B73-5DDD-4083-B260-E3D4676FE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C323-3A31-4819-9EB8-968734978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ABEF-EEF0-47CF-9656-BA41CA152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8B49-2CB5-4697-B8A3-874BF3E42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25DC-DC60-464F-92E0-71AF926A3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F1DE-06B8-4CBC-82C5-4F8A8950E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D64D-D498-4783-8487-7C4E72ED7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2F01-2906-4E74-A60F-D7B3FBC9E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A9D2-C022-4EFC-ABAA-34754FEE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82DD-D53D-4A6B-85AF-0D9D6C7C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815E-86F1-4F70-90F0-FFC02E07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49C02D-5A2B-49E1-B8F2-17051CD668A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