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92688"/>
        <c:axId val="57610255"/>
      </c:barChart>
      <c:catAx>
        <c:axId val="23692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10255"/>
        <c:crosses val="autoZero"/>
        <c:auto val="1"/>
        <c:lblAlgn val="ctr"/>
        <c:lblOffset val="100"/>
        <c:noMultiLvlLbl val="0"/>
      </c:catAx>
      <c:valAx>
        <c:axId val="57610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92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836-B074-4508-854D-4B353CC6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F6A-2B53-47A6-8456-6530DC50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804-0276-451E-8D77-A1ECD151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CBD-7BAB-4B79-A5ED-1CB059FD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31E-5601-4C6C-A4E9-0722917C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E10-D72E-4C33-8A3E-FFE91819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686-A93F-4E16-98DA-D9410453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ECC-303C-489A-B741-031DE081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EC1-9B9C-443B-9346-DA124C8F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B7F-D070-4BE2-94A4-40E72C3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A2E-7535-4FBC-BB5F-1D8077CB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B74-F643-4CA3-A59A-9C922991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48E9F-B3B7-41F2-9520-54345394F2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