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99052"/>
        <c:axId val="77648450"/>
      </c:barChart>
      <c:catAx>
        <c:axId val="29905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648450"/>
        <c:crosses val="autoZero"/>
        <c:auto val="1"/>
        <c:lblAlgn val="ctr"/>
        <c:lblOffset val="100"/>
        <c:noMultiLvlLbl val="0"/>
      </c:catAx>
      <c:valAx>
        <c:axId val="7764845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905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A1CD-8ADD-4F50-978F-6144481E4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77F7-AF79-47A2-9B9A-8B9B02ECF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051A-98EB-4BA4-BD3F-8F7E4DE24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3BA8-8D3E-4B63-99B5-DB70B9EE6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9CD5-34D3-49D2-BEA9-0ECCF3CA7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1CC4-15D2-4174-BD6A-FD80D12D0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3728-4AFB-4482-B7FE-4D2015565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62DE-6786-43EA-9ADD-D0F0F716B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3704-0108-45EC-A8BA-0B05872E1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5674-6284-4B27-8090-C0F8BCD67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033A-A031-4DE4-A797-63ACA32B8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DDC8-BD44-4442-96C8-4F56FC32F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4E7CF8-BD5D-4C55-862F-AB7B5C789EF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