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487408"/>
        <c:axId val="89971020"/>
      </c:barChart>
      <c:catAx>
        <c:axId val="254874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71020"/>
        <c:crosses val="autoZero"/>
        <c:auto val="1"/>
        <c:lblAlgn val="ctr"/>
        <c:lblOffset val="100"/>
        <c:noMultiLvlLbl val="0"/>
      </c:catAx>
      <c:valAx>
        <c:axId val="899710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874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C59-F53D-4820-9762-89E5F423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013-3725-4650-9985-AB0D7AA7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53C0-E415-41D6-9599-953AD109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387-81DB-4901-9698-FB062E89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11B-E505-4E00-B47F-525C2315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1A1-30E6-46D4-BD58-4861847C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149-D206-4E49-BBF2-D8F12DFB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4476-B8D3-4EE0-BA59-48293AF2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980-19BB-4CF9-B49E-B7DC66CA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D137-C6EF-4D71-A02E-F85931D5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500-E522-44E4-9371-F5F57343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E65-02BF-47AD-B7E9-E5F0C9B1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F797D-8CFB-44F3-8A99-4BEA6B9AF4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