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383195"/>
        <c:axId val="85399745"/>
      </c:barChart>
      <c:catAx>
        <c:axId val="773831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399745"/>
        <c:crosses val="autoZero"/>
        <c:auto val="1"/>
        <c:lblAlgn val="ctr"/>
        <c:lblOffset val="100"/>
        <c:noMultiLvlLbl val="0"/>
      </c:catAx>
      <c:valAx>
        <c:axId val="853997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3831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F29E-A54A-4919-AB55-670D7D9A6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5F1B-54D4-46DA-B777-55ACA5377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E63F-ADFA-4B06-9B7C-FC1943384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B8A3-5D2C-41B4-9919-2108C04D6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0B50-7580-4C0B-9C59-ED69FB452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C14C-F274-4FB0-9DE2-CE727F970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A799-BDC7-4F7C-936F-CAB36984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49AC-6484-4AA3-A950-0D94730A5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BED3-3174-4DA6-A821-E2AD273AC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F701-787B-46BD-939E-62455BBC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8A5A-8CDA-40EE-A11C-1462537B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3987-E89A-4C39-AF84-606DAAAB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54394A-2C27-41A8-B7AB-D095054D6D8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