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55537"/>
        <c:axId val="20203542"/>
      </c:barChart>
      <c:catAx>
        <c:axId val="67555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03542"/>
        <c:crosses val="autoZero"/>
        <c:auto val="1"/>
        <c:lblAlgn val="ctr"/>
        <c:lblOffset val="100"/>
        <c:noMultiLvlLbl val="0"/>
      </c:catAx>
      <c:valAx>
        <c:axId val="20203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55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358-0D03-4AA2-B290-48D26BDC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87E-35BF-4FFE-A8E4-580166F9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E00-53FE-405F-96B8-88E77180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502-7A93-4BF1-A3E6-475E3606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967-AB80-4FD5-85C5-C22BC885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E9D-ED74-4155-BC8D-68458593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F5F-6B2C-49E6-9923-AF355A84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55D-57B7-45F2-AAD4-4C0A24A0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707-919B-42CE-9D3B-2175F7E0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4EA-217B-4763-9714-05A56FA7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1CC-7938-4B85-9A18-678E04C5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B08-2906-4B44-8CD8-539E5ADA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EBB03-CA0F-48EC-B2DD-93D622565A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