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45236"/>
        <c:axId val="87510458"/>
      </c:barChart>
      <c:catAx>
        <c:axId val="16145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10458"/>
        <c:crosses val="autoZero"/>
        <c:auto val="1"/>
        <c:lblAlgn val="ctr"/>
        <c:lblOffset val="100"/>
        <c:noMultiLvlLbl val="0"/>
      </c:catAx>
      <c:valAx>
        <c:axId val="87510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45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081-9B84-48F2-ACBB-B59DCAA6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043-D314-4FAF-AF4B-B8F18732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2CF-CD2F-4B64-8094-DF1CE4E1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DEE-5AAC-4AC4-B1E4-0A02890B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103-0C92-4CCC-B673-3A521EEB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EBC-4542-4F1C-95CF-C417BFB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554-9E43-494A-B4E9-D61AB5B2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491-A242-4B97-83E2-CC934001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BBA-AD0D-4FA9-AC7D-A5AD3975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A52-61DD-4025-8950-68EB7253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551-612A-493C-B70A-EC8529C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0AB-5BA9-48A9-81E6-888A82F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B5C06-6730-46E0-82B4-751D8EE52C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