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639923"/>
        <c:axId val="76515715"/>
      </c:barChart>
      <c:catAx>
        <c:axId val="136399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15715"/>
        <c:crosses val="autoZero"/>
        <c:auto val="1"/>
        <c:lblAlgn val="ctr"/>
        <c:lblOffset val="100"/>
        <c:noMultiLvlLbl val="0"/>
      </c:catAx>
      <c:valAx>
        <c:axId val="765157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399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EB2E-E8A5-48C0-96B9-8BA9ECC1C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7CCD-BC58-436E-87BB-2CAC5A8D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2EB0-9E39-4243-807D-50463401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F5E2-0B62-4841-AE8E-ECE11380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8526-A2C4-480B-8E40-988EB177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743C-C1B5-4D1E-BC2A-FDEC442B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7BA9-EB62-4BE3-8EEC-C3D27FA8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B1AC-5090-4F4D-9666-3413892D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CDD1-E7F6-4386-9CFE-24AE28FF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3B0F-680E-493B-B83C-E0CFD0E3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9B60-8B61-4CF9-95E5-BBC71601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630A-6F27-4204-99D5-C9728E2F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7E7CD-ED36-436F-8CC5-17B03330E8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